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CA3A2-932E-4E95-8720-20176D78380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C99-7DC1-46AD-8219-64F458BB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21B-131A-4011-BCFE-3AF49D2E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31D-52EF-4B88-97C4-F5792680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0AB-53B4-4350-B682-90FA3EE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0D6-0438-457D-AFA0-F9F05FE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5D0-04F2-4015-AFFB-EEA1ED78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620-E928-437B-9D8A-B1134D8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2F1-4B9F-4C5A-864F-27263EC6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75960"/>
            <a:ext cx="6168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B0D-8438-44FD-9DC9-68E8F90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ACC-8629-4713-9B1F-5C81496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5DF-9336-4375-8674-534F79B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4D4-E054-4184-AF21-53CC481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2880" y="8326080"/>
            <a:ext cx="21682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48D2-728D-4E55-B770-839E683B1B73}" type="slidenum"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0640" y="7737480"/>
            <a:ext cx="5829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Scuola Primaria Pecorini (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lasse I B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00" y="2638440"/>
            <a:ext cx="5670360" cy="28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42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 le man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ll'acqu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252360"/>
            <a:ext cx="5829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Acqu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s0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85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s1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00800" cy="807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p01" descr=""/>
          <p:cNvPicPr/>
          <p:nvPr/>
        </p:nvPicPr>
        <p:blipFill>
          <a:blip r:embed="rId1"/>
          <a:stretch/>
        </p:blipFill>
        <p:spPr>
          <a:xfrm>
            <a:off x="-533520" y="167652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p02" descr=""/>
          <p:cNvPicPr/>
          <p:nvPr/>
        </p:nvPicPr>
        <p:blipFill>
          <a:blip r:embed="rId1"/>
          <a:stretch/>
        </p:blipFill>
        <p:spPr>
          <a:xfrm>
            <a:off x="6480" y="1440"/>
            <a:ext cx="6851520" cy="9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ap03" descr=""/>
          <p:cNvPicPr/>
          <p:nvPr/>
        </p:nvPicPr>
        <p:blipFill>
          <a:blip r:embed="rId1"/>
          <a:stretch/>
        </p:blipFill>
        <p:spPr>
          <a:xfrm>
            <a:off x="0" y="0"/>
            <a:ext cx="6905520" cy="9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Diap04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p0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p06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-360"/>
            <a:ext cx="6168960" cy="83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p07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iap08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36440"/>
            <a:ext cx="58291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520" y="52700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s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ap09" descr=""/>
          <p:cNvPicPr/>
          <p:nvPr/>
        </p:nvPicPr>
        <p:blipFill>
          <a:blip r:embed="rId1"/>
          <a:stretch/>
        </p:blipFill>
        <p:spPr>
          <a:xfrm>
            <a:off x="-533520" y="685800"/>
            <a:ext cx="7899480" cy="77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p10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iap11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is0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54864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s0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624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0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09588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s0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24816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s0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s07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6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s0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5:21:10Z</dcterms:created>
  <dc:creator>Direzione Didattica</dc:creator>
  <dc:description/>
  <dc:language>en-US</dc:language>
  <cp:lastModifiedBy>Himself</cp:lastModifiedBy>
  <dcterms:modified xsi:type="dcterms:W3CDTF">2010-07-17T07:54:51Z</dcterms:modified>
  <cp:revision>13</cp:revision>
  <dc:subject/>
  <dc:title>Diapositiva 1</dc:title>
</cp:coreProperties>
</file>